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2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7.wmf" ContentType="image/x-wmf"/>
  <Override PartName="/ppt/media/image12.png" ContentType="image/png"/>
  <Override PartName="/ppt/media/image13.png" ContentType="image/png"/>
  <Override PartName="/ppt/media/image8.wmf" ContentType="image/x-wmf"/>
  <Override PartName="/ppt/media/image40.png" ContentType="image/png"/>
  <Override PartName="/ppt/media/image9.jpeg" ContentType="image/jpeg"/>
  <Override PartName="/ppt/media/image38.png" ContentType="image/png"/>
  <Override PartName="/ppt/media/image37.jpeg" ContentType="image/jpeg"/>
  <Override PartName="/ppt/media/image30.png" ContentType="image/png"/>
  <Override PartName="/ppt/media/image33.png" ContentType="image/png"/>
  <Override PartName="/ppt/media/image14.jpeg" ContentType="image/jpeg"/>
  <Override PartName="/ppt/media/image34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6.wmf" ContentType="image/x-wmf"/>
  <Override PartName="/ppt/media/image5.wmf" ContentType="image/x-wmf"/>
  <Override PartName="/ppt/media/image35.jpeg" ContentType="image/jpeg"/>
  <Override PartName="/ppt/media/image10.png" ContentType="image/png"/>
  <Override PartName="/ppt/media/image27.jpeg" ContentType="image/jpeg"/>
  <Override PartName="/ppt/media/image4.wmf" ContentType="image/x-wmf"/>
  <Override PartName="/ppt/media/image2.wmf" ContentType="image/x-wmf"/>
  <Override PartName="/ppt/media/image1.png" ContentType="image/png"/>
  <Override PartName="/ppt/media/image11.jpeg" ContentType="image/jpeg"/>
  <Override PartName="/ppt/media/image2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798B-2312-4193-8461-94FF91477A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BB1D-32D8-4EB8-93F5-830ACFCF54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C0C7-0282-44EC-B09E-D95A52C4EC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FEAA-313C-4319-857C-579EB39C09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BC4B-6AA8-412B-9F32-F377ACFE69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2D37-D2A3-4210-B98B-5D18C1A9E8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424D-8708-49EE-8713-EA697DAEF4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D888-1AE8-4527-A939-AFAD7966CA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C65D-7F3C-465F-BC2B-244B042DDE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5CD5-3223-4052-9E69-C5FB0C9807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5F69-DCBA-4550-93DA-EFE75CC22F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1780-FA55-466A-8795-EAF857B402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7F33-B7E6-4D5F-B744-907958EC84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73C7-5A13-43F4-88E7-C21F149128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20B1-1302-476A-84D4-719DEF42C5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6A98-CB75-43C8-A54E-39F7C29877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D7A3-B30E-49F7-BF90-F96F77B354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FA4B-BE4E-4037-895B-B5111900E3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B73D-5E06-4F89-A752-C0F8E1D94C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CD81-E465-40D9-BA8D-C00E5086F1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6476-50E9-4E8A-B227-77D25742A9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2032-2414-4D21-8802-F2C64C4B07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F499-AFE3-4D04-9CC8-642F84FB51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6150-C016-426A-B79D-4943528D06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216A-8426-4BDC-890C-767B58ECEB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CFAF-6DB7-4BAF-A31E-79493B36F6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A50C-E637-4919-BD38-C61048A8D3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8B95-9DDB-4FEF-9E6F-E0E1C85333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1F40-AFBE-4579-90BD-312B2F7675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9FDF-A4F5-48C2-ABD2-EAFEF24AB5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BA47-C412-454D-9F8C-0C55DC9FE4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DF8F-CAD9-47B0-AFA6-9C776357BD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C287-00C3-4FCA-9C9B-62DF853820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FA85-AE45-4D77-99DD-3F45368C70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EB90-ECA7-4185-938A-2C26568722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CAF6-0A4A-4BDA-9A1B-F4EA7E50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53AF-7F32-4772-BE63-19B19F5D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77E-9629-49EC-9938-96FDA351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AFA3-A4A3-4E1F-896F-C824D41E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5047-B7DE-45F6-ABAC-ABF2B483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680-353F-432B-8EA6-23E72E25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9473-7B37-41FD-89AA-38D26D31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2BA-95E9-44BF-AA0D-F735EEB4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F818-B250-4068-8EE4-931EA746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9B1-7539-449A-9072-6147B467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4644-C602-439F-8DE8-4FAA1273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6CF-749F-4B92-8828-8F18A0B1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2769-5017-4174-BF3B-06A219EF32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worm"/>
          <p:cNvPicPr/>
          <p:nvPr/>
        </p:nvPicPr>
        <p:blipFill>
          <a:blip r:embed="rId1"/>
          <a:stretch/>
        </p:blipFill>
        <p:spPr>
          <a:xfrm>
            <a:off x="6227640" y="2276640"/>
            <a:ext cx="2681280" cy="3767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26920" y="2781360"/>
            <a:ext cx="5834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Copperplate Gothic Bold"/>
                <a:cs typeface="Guttman David"/>
              </a:rPr>
              <a:t>אסטרטגיה לפתרון בעיות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333399"/>
                </a:solidFill>
                <a:latin typeface="Copperplate Gothic Bold"/>
                <a:cs typeface="Guttman David"/>
              </a:rPr>
              <a:t>מבוא ללמידת חק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333399"/>
                </a:solidFill>
                <a:latin typeface="Copperplate Gothic Bold"/>
                <a:cs typeface="Guttman David"/>
              </a:rPr>
              <a:t>נווה חנה – כיתות ט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333399"/>
                </a:solidFill>
                <a:latin typeface="Copperplate Gothic Bold"/>
                <a:cs typeface="Guttman David"/>
              </a:rPr>
              <a:t>תשס"ו – עודכן תש"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99"/>
                </a:solidFill>
                <a:latin typeface="Copperplate Gothic Bold"/>
                <a:cs typeface="Guttman Yad-Brush"/>
              </a:rPr>
              <a:t>ראובן ורב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Copperplate Gothic Bold"/>
                <a:cs typeface="Guttman David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2060640"/>
            <a:ext cx="4029120" cy="3038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בעיית קנית טלפון סלולרי</a:t>
            </a:r>
            <a:br>
              <a:rPr sz="5400"/>
            </a:b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#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 אסטרטגיות חיפוש מיד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437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99"/>
                </a:solidFill>
                <a:latin typeface="Arial"/>
              </a:rPr>
              <a:t>מהם המקורות מהם ניתן ללמוד על טלפונים סלולריים (עלויות, דגמים וחבילות תקשורת,  תכונות של המכשירים, וכו')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333399"/>
                </a:solidFill>
                <a:latin typeface="Arial"/>
              </a:rPr>
              <a:t>חנויות (קניונים, חנויות תקשורת וכו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333399"/>
                </a:solidFill>
                <a:latin typeface="Arial"/>
              </a:rPr>
              <a:t>קטלוגי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333399"/>
                </a:solidFill>
                <a:latin typeface="Arial"/>
              </a:rPr>
              <a:t>עיתונים (ארציים, מקומיי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333399"/>
                </a:solidFill>
                <a:latin typeface="Arial"/>
              </a:rPr>
              <a:t>חבֵרות ובני משפח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333399"/>
                </a:solidFill>
                <a:latin typeface="Arial"/>
              </a:rPr>
              <a:t>אתרי אינטרנ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99"/>
                </a:solidFill>
                <a:latin typeface="Arial"/>
              </a:rPr>
              <a:t>מהם המקורות הכי טובי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333399"/>
                </a:solidFill>
                <a:latin typeface="Arial"/>
              </a:rPr>
              <a:t>חנויות מעוניינים "לדחוף"  את הדגמים שלהם וחבילות תקשורת יקרות. יש להיזהר! אבל אפשר לבדוק את הדגמים, להפעיל כפתורים ותפריטים, לבחון את איכות הצג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333399"/>
                </a:solidFill>
                <a:latin typeface="Arial"/>
              </a:rPr>
              <a:t>יש גם אתרי אינטרנט המוכרים דגמים שלהם. אי אפשר לבדוק את המכשיר לפני שקונים. </a:t>
            </a:r>
            <a:r>
              <a:rPr b="1" lang="he-IL" sz="1800" spc="-1" strike="noStrike">
                <a:solidFill>
                  <a:srgbClr val="333399"/>
                </a:solidFill>
                <a:latin typeface="Arial"/>
              </a:rPr>
              <a:t>כדאי לבדוק באתרי צרכנות שאינם מוכרים טלפונים. אפשר לבדוק את התכונות של כל מודל ואת המחירים ואת כמות הקרינה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8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8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8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8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8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2570400" cy="3765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#3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 איתור וגיש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היכן נמצא כל מקו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היכן נמצא המידע בכל מקו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3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7" dur="1" fill="hold"/>
                                  <p:tgtEl>
                                    <p:spTgt spid="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בעיית קנית טלפון סלורי</a:t>
            </a:r>
            <a:br>
              <a:rPr sz="5400"/>
            </a:br>
            <a:r>
              <a:rPr b="0" lang="he-IL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e-IL" sz="4400" spc="-1" strike="noStrike">
                <a:solidFill>
                  <a:srgbClr val="ff0000"/>
                </a:solidFill>
                <a:latin typeface="Arial"/>
              </a:rPr>
              <a:t>#3</a:t>
            </a:r>
            <a:r>
              <a:rPr b="1" lang="he-IL" sz="4400" spc="-1" strike="noStrike">
                <a:solidFill>
                  <a:srgbClr val="ff0000"/>
                </a:solidFill>
                <a:latin typeface="Arial"/>
              </a:rPr>
              <a:t> איתור וגיש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היכן נמצא כל מקור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אינטרנ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קניו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חנויות בעי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דפי זה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היכן נמצא המידע בכל מקור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מדריך לקניו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חיפוש בקטלוגים לפי סוג חברות הטלפון וחברות התקשור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חיפוש במדריכי קניות באינטרנט כדי למצוא חנויות מקוונות וכן אתרי החברות ואתרי צרכנים, קריאת המלצות של הקונים ואזהרו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חיפוש בדפי זהב בקטגוריות טלפונים ותקשור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שיחות עם מכרים שקנו בזמן האחרו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9"/>
          <p:cNvGrpSpPr/>
          <p:nvPr/>
        </p:nvGrpSpPr>
        <p:grpSpPr>
          <a:xfrm>
            <a:off x="684360" y="1989000"/>
            <a:ext cx="2927160" cy="1504800"/>
            <a:chOff x="684360" y="1989000"/>
            <a:chExt cx="2927160" cy="1504800"/>
          </a:xfrm>
        </p:grpSpPr>
        <p:pic>
          <p:nvPicPr>
            <p:cNvPr id="94" name="Picture 5" descr=""/>
            <p:cNvPicPr/>
            <p:nvPr/>
          </p:nvPicPr>
          <p:blipFill>
            <a:blip r:embed="rId1"/>
            <a:stretch/>
          </p:blipFill>
          <p:spPr>
            <a:xfrm>
              <a:off x="1763640" y="1989000"/>
              <a:ext cx="184788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6"/>
            <p:cNvSpPr/>
            <p:nvPr/>
          </p:nvSpPr>
          <p:spPr>
            <a:xfrm>
              <a:off x="684360" y="234936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מפה</a:t>
              </a:r>
              <a:endParaRPr b="0" lang="en-US" sz="18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pic>
        <p:nvPicPr>
          <p:cNvPr id="96" name="Picture 10" descr=""/>
          <p:cNvPicPr/>
          <p:nvPr/>
        </p:nvPicPr>
        <p:blipFill>
          <a:blip r:embed="rId2"/>
          <a:stretch/>
        </p:blipFill>
        <p:spPr>
          <a:xfrm>
            <a:off x="108000" y="4869000"/>
            <a:ext cx="2990880" cy="148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5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3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#4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 השימוש</a:t>
            </a:r>
            <a:r>
              <a:rPr b="0" lang="he-IL" sz="4400" spc="-1" strike="noStrike">
                <a:solidFill>
                  <a:srgbClr val="f6bf69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במיד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ך אוכל להשתמש בכל מקור בדרך הטובה ביות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זה מידע בכל מקור הוא שימוש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426960" y="3357720"/>
            <a:ext cx="2508480" cy="350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0000"/>
                </a:solidFill>
                <a:latin typeface="Arial"/>
              </a:rPr>
              <a:t>בעיית קנית טלפון סלולרי</a:t>
            </a:r>
            <a:br>
              <a:rPr sz="4800"/>
            </a:b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0000"/>
                </a:solidFill>
                <a:latin typeface="Arial"/>
              </a:rPr>
              <a:t>#4</a:t>
            </a:r>
            <a:r>
              <a:rPr b="1" lang="he-IL" sz="4000" spc="-1" strike="noStrike">
                <a:solidFill>
                  <a:srgbClr val="ff0000"/>
                </a:solidFill>
                <a:latin typeface="Arial"/>
              </a:rPr>
              <a:t> השימוש במיד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איך אוכל להשתמש בכל מקור בדרך הטובה ביותר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בקרי בחנויות, אתרי אינטרנט, קראי קטלוגים, </a:t>
            </a:r>
            <a:r>
              <a:rPr b="1" lang="he-IL" sz="2000" spc="-1" strike="noStrike" u="sng">
                <a:solidFill>
                  <a:srgbClr val="333399"/>
                </a:solidFill>
                <a:uFillTx/>
                <a:latin typeface="Arial"/>
              </a:rPr>
              <a:t>רשמי הערות</a:t>
            </a:r>
            <a:r>
              <a:rPr b="1" lang="he-I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על </a:t>
            </a:r>
            <a:r>
              <a:rPr b="0" lang="he-IL" sz="2000" spc="-1" strike="noStrike" u="sng">
                <a:solidFill>
                  <a:srgbClr val="333399"/>
                </a:solidFill>
                <a:uFillTx/>
                <a:latin typeface="Arial"/>
              </a:rPr>
              <a:t>מודלים</a:t>
            </a: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he-IL" sz="2000" spc="-1" strike="noStrike" u="sng">
                <a:solidFill>
                  <a:srgbClr val="333399"/>
                </a:solidFill>
                <a:uFillTx/>
                <a:latin typeface="Arial"/>
              </a:rPr>
              <a:t>תכונות</a:t>
            </a: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e-IL" sz="2000" spc="-1" strike="noStrike" u="sng">
                <a:solidFill>
                  <a:srgbClr val="333399"/>
                </a:solidFill>
                <a:uFillTx/>
                <a:latin typeface="Arial"/>
              </a:rPr>
              <a:t>ומחירים</a:t>
            </a: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 של מכשירים וחבילות תקשור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איזה מידע בכל מקור הוא שימוש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יש להם מודלים שיפים בעיני – מתקפל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LIDER</a:t>
            </a: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, בננה, צבעי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התכונות מתאימות לי, משקל, גודל,כפתורים, צג, תפריטים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MS</a:t>
            </a: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p3</a:t>
            </a: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, מצלמה מובנית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הוא מתאים לצרכים שלי - קליטה טובה, תפריט נוח, מחשבון, שעון מעורר, יכולת גלישה (האם אני צריכה את זה?), אורך הטענה של הסוללה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הוא מתאים לתקציב? האם יש חבילת גלישה זולה לצעירים, למספרי המשפחה, לחברים, למשלוח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MS</a:t>
            </a: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Article_Paragraph_921086"/>
          <p:cNvPicPr/>
          <p:nvPr/>
        </p:nvPicPr>
        <p:blipFill>
          <a:blip r:embed="rId1"/>
          <a:stretch/>
        </p:blipFill>
        <p:spPr>
          <a:xfrm>
            <a:off x="539640" y="2349360"/>
            <a:ext cx="2303640" cy="1301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133200" y="5425920"/>
            <a:ext cx="1171800" cy="129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6" dur="1" fill="hold"/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#5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 מיזוג</a:t>
            </a:r>
            <a:r>
              <a:rPr b="0" lang="he-IL" sz="4400" spc="-1" strike="noStrike">
                <a:solidFill>
                  <a:srgbClr val="f6bf69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(סינתזה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ך אוכל לארגן את המידע מכל המקורות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ך ניתן להציג את המידע בדרך הטובה ביות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332000" y="3176640"/>
            <a:ext cx="2652480" cy="368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4" dur="1" fill="hold"/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0000"/>
                </a:solidFill>
                <a:latin typeface="Arial"/>
              </a:rPr>
              <a:t>בעיית קנית טלפון סלולרי</a:t>
            </a:r>
            <a:br>
              <a:rPr sz="4800"/>
            </a:b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0000"/>
                </a:solidFill>
                <a:latin typeface="Arial"/>
              </a:rPr>
              <a:t>#5</a:t>
            </a:r>
            <a:r>
              <a:rPr b="1" lang="he-IL" sz="4000" spc="-1" strike="noStrike">
                <a:solidFill>
                  <a:srgbClr val="ff0000"/>
                </a:solidFill>
                <a:latin typeface="Arial"/>
              </a:rPr>
              <a:t> מיזוג (סינתזה) – מחברים את הכו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19280" y="1628640"/>
            <a:ext cx="511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3399"/>
                </a:solidFill>
                <a:latin typeface="Arial"/>
              </a:rPr>
              <a:t>איך אוכל לארגן את המידע מכל המקורות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אם יש הרבה מידע, ניתן לרכזו בטבלה עם שם הדגם,  מחיר, סוג ומחיר חבילת תקשורת, מקומות קנייה, וכו'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ך ניתן להציג את המידע בדרך הטובה ביות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לחבר רשימה סופית של טלפונים שאני רוצה לקנות, היכן הן נמכרות ומה מחירן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לקנות את הטלפון וחבילת התקשור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8000" y="4653000"/>
          <a:ext cx="3492360" cy="1201680"/>
        </p:xfrm>
        <a:graphic>
          <a:graphicData uri="http://schemas.openxmlformats.org/drawingml/2006/table">
            <a:tbl>
              <a:tblPr/>
              <a:tblGrid>
                <a:gridCol w="915840"/>
                <a:gridCol w="720720"/>
                <a:gridCol w="1065240"/>
                <a:gridCol w="79056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סוג החבילה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חיר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קום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הקנייה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שם הדגם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#6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 הערכ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האם נפתרה הבעיה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ך אוכל לעשות את זה יותר טוב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 rtl="1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492360" y="3357720"/>
            <a:ext cx="2252880" cy="3336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0" dur="1" fill="hold"/>
                                  <p:tgtEl>
                                    <p:spTgt spid="1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0000"/>
                </a:solidFill>
                <a:latin typeface="Arial"/>
              </a:rPr>
              <a:t>בעיית קנית טלפון סלולרי</a:t>
            </a:r>
            <a:br>
              <a:rPr sz="4800"/>
            </a:b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0000"/>
                </a:solidFill>
                <a:latin typeface="Arial"/>
              </a:rPr>
              <a:t>#6</a:t>
            </a:r>
            <a:r>
              <a:rPr b="1" lang="he-IL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e-IL" sz="3400" spc="-1" strike="noStrike">
                <a:solidFill>
                  <a:srgbClr val="ff0000"/>
                </a:solidFill>
                <a:latin typeface="Arial"/>
              </a:rPr>
              <a:t>הערכה – האם יכולתי לעשות יותר טוב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האם נפתרה הבעיה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האם יש לי טלפון סלולרי חד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האם הוא יפה בעינ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האם הוא משמש את צרכ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האם המחיר שלו וחבילת התקשורת מתאימים ל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איך אוכל לעשות את זה יותר טוב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האם חיפשתי במספיק מקומות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האם היה מבצע בשבוע הבא שיכולתי ללמוד עליו מתוך העיתון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האם הצבע הרועש באמת מתאים ל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האם סיכמתי את המידע בצורה נכונה לפני הקנייה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האם אני גאה בביצועים של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Article_Paragraph_921078"/>
          <p:cNvPicPr/>
          <p:nvPr/>
        </p:nvPicPr>
        <p:blipFill>
          <a:blip r:embed="rId1"/>
          <a:stretch/>
        </p:blipFill>
        <p:spPr>
          <a:xfrm>
            <a:off x="281160" y="1420920"/>
            <a:ext cx="3389040" cy="1700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133200" y="5778360"/>
            <a:ext cx="2378160" cy="903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3"/>
          <a:stretch/>
        </p:blipFill>
        <p:spPr>
          <a:xfrm>
            <a:off x="493560" y="3139920"/>
            <a:ext cx="944640" cy="136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1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1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1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0" dur="1" fill="hold"/>
                                  <p:tgtEl>
                                    <p:spTgt spid="114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worm"/>
          <p:cNvPicPr/>
          <p:nvPr/>
        </p:nvPicPr>
        <p:blipFill>
          <a:blip r:embed="rId1"/>
          <a:stretch/>
        </p:blipFill>
        <p:spPr>
          <a:xfrm>
            <a:off x="3203640" y="2276640"/>
            <a:ext cx="2681280" cy="37670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0000"/>
                </a:solidFill>
                <a:latin typeface="Arial"/>
              </a:rPr>
              <a:t>השישייה הפותחת במטלת חק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לבנות אתר אינטרנט לזכר ישובי גוש קטי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גוש קטיף, ארכיון"/>
          <p:cNvPicPr/>
          <p:nvPr/>
        </p:nvPicPr>
        <p:blipFill>
          <a:blip r:embed="rId2"/>
          <a:stretch/>
        </p:blipFill>
        <p:spPr>
          <a:xfrm>
            <a:off x="539640" y="2565360"/>
            <a:ext cx="2324160" cy="1619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Gush%20Sunset%20beach"/>
          <p:cNvPicPr/>
          <p:nvPr/>
        </p:nvPicPr>
        <p:blipFill>
          <a:blip r:embed="rId3"/>
          <a:stretch/>
        </p:blipFill>
        <p:spPr>
          <a:xfrm>
            <a:off x="6516720" y="270828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YeshivatYamit_outside-GushKatif-142"/>
          <p:cNvPicPr/>
          <p:nvPr/>
        </p:nvPicPr>
        <p:blipFill>
          <a:blip r:embed="rId4"/>
          <a:stretch/>
        </p:blipFill>
        <p:spPr>
          <a:xfrm>
            <a:off x="684360" y="4869000"/>
            <a:ext cx="1568160" cy="1568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DSCN0238"/>
          <p:cNvPicPr/>
          <p:nvPr/>
        </p:nvPicPr>
        <p:blipFill>
          <a:blip r:embed="rId5"/>
          <a:stretch/>
        </p:blipFill>
        <p:spPr>
          <a:xfrm>
            <a:off x="6516720" y="4724280"/>
            <a:ext cx="2016000" cy="1513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2000"/>
                            </p:stCondLst>
                            <p:childTnLst>
                              <p:par>
                                <p:cTn id="8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500"/>
                            </p:stCondLst>
                            <p:childTnLst>
                              <p:par>
                                <p:cTn id="8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3500"/>
                            </p:stCondLst>
                            <p:childTnLst>
                              <p:par>
                                <p:cTn id="8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cc9900"/>
                </a:solidFill>
                <a:latin typeface="Arial"/>
              </a:rPr>
              <a:t>ברוכה הבאה לכיתה ט'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580000" y="16002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תור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תושב"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תמטיק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שו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דעי החי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נ"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נגלי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מידת חק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187280" y="1557360"/>
            <a:ext cx="310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ספרות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תר"ג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צפיה ביקורתית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חשבת ישראל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חינוך גופני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והלכת בדרכיו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עשרה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תנדבות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4" name="Picture 8" descr="j0355387"/>
          <p:cNvPicPr/>
          <p:nvPr/>
        </p:nvPicPr>
        <p:blipFill>
          <a:blip r:embed="rId1"/>
          <a:stretch/>
        </p:blipFill>
        <p:spPr>
          <a:xfrm>
            <a:off x="179280" y="4724280"/>
            <a:ext cx="1413000" cy="1839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MCj03551430000[1]"/>
          <p:cNvPicPr/>
          <p:nvPr/>
        </p:nvPicPr>
        <p:blipFill>
          <a:blip r:embed="rId2"/>
          <a:stretch/>
        </p:blipFill>
        <p:spPr>
          <a:xfrm>
            <a:off x="4500720" y="4508640"/>
            <a:ext cx="1830240" cy="1811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MCj03574210000[1]"/>
          <p:cNvPicPr/>
          <p:nvPr/>
        </p:nvPicPr>
        <p:blipFill>
          <a:blip r:embed="rId3"/>
          <a:stretch/>
        </p:blipFill>
        <p:spPr>
          <a:xfrm>
            <a:off x="4427640" y="1484280"/>
            <a:ext cx="1573200" cy="182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2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89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11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33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3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73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worm"/>
          <p:cNvPicPr/>
          <p:nvPr/>
        </p:nvPicPr>
        <p:blipFill>
          <a:blip r:embed="rId1"/>
          <a:stretch/>
        </p:blipFill>
        <p:spPr>
          <a:xfrm>
            <a:off x="0" y="4005360"/>
            <a:ext cx="1860480" cy="2614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# 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 הגדרת המטל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מהי הבעיה שעלי לפתור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מהו המידע ההכרחי שאני צריכה כדי לפתור אותה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0000"/>
                </a:solidFill>
                <a:latin typeface="Arial"/>
              </a:rPr>
              <a:t>בעיית בניית אתר גוש קטיף</a:t>
            </a:r>
            <a:br>
              <a:rPr sz="4800"/>
            </a:br>
            <a:r>
              <a:rPr b="0" lang="he-IL" sz="4000" spc="-1" strike="noStrike">
                <a:solidFill>
                  <a:srgbClr val="ff0000"/>
                </a:solidFill>
                <a:latin typeface="Arial"/>
              </a:rPr>
              <a:t>#1</a:t>
            </a:r>
            <a:r>
              <a:rPr b="0" lang="he-IL" sz="4000" spc="-1" strike="noStrike">
                <a:solidFill>
                  <a:srgbClr val="ff0000"/>
                </a:solidFill>
                <a:latin typeface="Arial"/>
              </a:rPr>
              <a:t> הגדרת המטל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r" rtl="1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400" spc="-1" strike="noStrike">
                <a:solidFill>
                  <a:srgbClr val="333399"/>
                </a:solidFill>
                <a:latin typeface="Arial"/>
              </a:rPr>
              <a:t>מהי הבעיה שעלי לפתור</a:t>
            </a: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לבנות אתר כדי להנציח את הישובים של גוש קטי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400" spc="-1" strike="noStrike">
                <a:solidFill>
                  <a:srgbClr val="333399"/>
                </a:solidFill>
                <a:latin typeface="Arial"/>
              </a:rPr>
              <a:t>מהו המידע ההכרחי שאני צריכה כדי לפתור אותה</a:t>
            </a: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333399"/>
                </a:solidFill>
                <a:latin typeface="Arial"/>
              </a:rPr>
              <a:t>שמות הישובים ומיקומ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333399"/>
                </a:solidFill>
                <a:latin typeface="Arial"/>
              </a:rPr>
              <a:t>ההיסטוריה של ההתיישבות, בנייה, חקלאו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333399"/>
                </a:solidFill>
                <a:latin typeface="Arial"/>
              </a:rPr>
              <a:t>תמונות, מפו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333399"/>
                </a:solidFill>
                <a:latin typeface="Arial"/>
              </a:rPr>
              <a:t>חיי תורה, תרבות וחינו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333399"/>
                </a:solidFill>
                <a:latin typeface="Arial"/>
              </a:rPr>
              <a:t>חיי יום יו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333399"/>
                </a:solidFill>
                <a:latin typeface="Arial"/>
              </a:rPr>
              <a:t>ביטחון וחיים תחת טרור ופצמ"רים, פעילות צה"ל באזו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333399"/>
                </a:solidFill>
                <a:latin typeface="Arial"/>
              </a:rPr>
              <a:t>אסון הגירו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Heza4"/>
          <p:cNvPicPr/>
          <p:nvPr/>
        </p:nvPicPr>
        <p:blipFill>
          <a:blip r:embed="rId1"/>
          <a:stretch/>
        </p:blipFill>
        <p:spPr>
          <a:xfrm>
            <a:off x="179280" y="3429000"/>
            <a:ext cx="2016360" cy="1314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gush_katif_mahsom_s"/>
          <p:cNvPicPr/>
          <p:nvPr/>
        </p:nvPicPr>
        <p:blipFill>
          <a:blip r:embed="rId2"/>
          <a:stretch/>
        </p:blipFill>
        <p:spPr>
          <a:xfrm>
            <a:off x="395280" y="4797360"/>
            <a:ext cx="1527120" cy="119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worm"/>
          <p:cNvPicPr/>
          <p:nvPr/>
        </p:nvPicPr>
        <p:blipFill>
          <a:blip r:embed="rId1"/>
          <a:stretch/>
        </p:blipFill>
        <p:spPr>
          <a:xfrm>
            <a:off x="900000" y="2852640"/>
            <a:ext cx="2681280" cy="3767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3600" spc="-1" strike="noStrike">
                <a:solidFill>
                  <a:srgbClr val="333399"/>
                </a:solidFill>
                <a:latin typeface="Arial"/>
              </a:rPr>
              <a:t>#2</a:t>
            </a:r>
            <a:r>
              <a:rPr b="1" lang="he-IL" sz="3600" spc="-1" strike="noStrike">
                <a:solidFill>
                  <a:srgbClr val="333399"/>
                </a:solidFill>
                <a:latin typeface="Arial"/>
              </a:rPr>
              <a:t> אסטרטגיות חיפוש מיד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מהם מקורות המידע מהם ניתן לקבל תשובות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מהם המקורות הכי טובי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7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0000"/>
                </a:solidFill>
                <a:latin typeface="Arial"/>
              </a:rPr>
              <a:t>בעיית בניית אתר גוש קטיף</a:t>
            </a:r>
            <a:br>
              <a:rPr sz="4800"/>
            </a:b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#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 אסטרטגיות חיפוש מיד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437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מהם המקורות מהם ניתן ללמוד על ישובי גוש קטיף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ספרים ומאמרים בכתבי עת, אטלסים, אלבומים – שימוש באינדקסים של כתבי עת ויהדו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ארכיונים של עיתונים, רדיו וטלוויזיה  - בכתב ומקוו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חומר הדרכה והסברה של גוש קטיף, מועצת יש"ע, תנועת נוער, וכו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ראיונות, אוספים פרטיים של תמונות, עלונים, יומנים, מאמר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אתרי אינטרנט של גוש קטיף, מועצת ישע של הישובים עצמ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ארכיונים של ישובים, מועצת יש"ע ושל הסוכנות היהודי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אלבומים ותקליטורי זיכרון שפורסמו לאחרונ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אוסף התצלומים הלאומי 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of.gov.il/pict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מהם המקורות הכי טובי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ספרים מתאימים בעיקר להיסטוריה, לא מעודכנים – אלבומים חדש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ריכוז גדול של חומר בעיתונות ורדיו וטלוויזיה בחודשים האחרונ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אוסף גדול של תמונות וסרטים מתקופות שונו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ynet"/>
          <p:cNvPicPr/>
          <p:nvPr/>
        </p:nvPicPr>
        <p:blipFill>
          <a:blip r:embed="rId1"/>
          <a:stretch/>
        </p:blipFill>
        <p:spPr>
          <a:xfrm>
            <a:off x="1547640" y="2781360"/>
            <a:ext cx="905040" cy="542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lo"/>
          <p:cNvPicPr/>
          <p:nvPr/>
        </p:nvPicPr>
        <p:blipFill>
          <a:blip r:embed="rId2"/>
          <a:stretch/>
        </p:blipFill>
        <p:spPr>
          <a:xfrm>
            <a:off x="755640" y="37162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ימואלה םימולצתה ףסוא/אוסף התצלומים הלאומי"/>
          <p:cNvPicPr/>
          <p:nvPr/>
        </p:nvPicPr>
        <p:blipFill>
          <a:blip r:embed="rId3"/>
          <a:stretch/>
        </p:blipFill>
        <p:spPr>
          <a:xfrm>
            <a:off x="0" y="4437000"/>
            <a:ext cx="1866960" cy="140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8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8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8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8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8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8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8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8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8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8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8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8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8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8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8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8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8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8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8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8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8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8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8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8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8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8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8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8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8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8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8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8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8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8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8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8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8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8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8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8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8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8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8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8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8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2570400" cy="37656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#3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 איתור וגיש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היכן נמצא כל מקו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היכן נמצא המידע בכל מקו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6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0" dur="1" fill="hold"/>
                                  <p:tgtEl>
                                    <p:spTgt spid="1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0000"/>
                </a:solidFill>
                <a:latin typeface="Arial"/>
              </a:rPr>
              <a:t>בעיית בניית אתר גוש קטיף</a:t>
            </a: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5400"/>
            </a:br>
            <a:r>
              <a:rPr b="0" lang="he-IL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e-IL" sz="4400" spc="-1" strike="noStrike">
                <a:solidFill>
                  <a:srgbClr val="ff0000"/>
                </a:solidFill>
                <a:latin typeface="Arial"/>
              </a:rPr>
              <a:t>#3</a:t>
            </a:r>
            <a:r>
              <a:rPr b="1" lang="he-IL" sz="4400" spc="-1" strike="noStrike">
                <a:solidFill>
                  <a:srgbClr val="ff0000"/>
                </a:solidFill>
                <a:latin typeface="Arial"/>
              </a:rPr>
              <a:t> איתור וגיש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היכן נמצא כל מקור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ספריות (בית הספר, מכללות אוניברסיטאות, הספרייה הלאומית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אינטרנט – אתר קטיף.נט, אתרי עיתונים ותחנות רדיו וטלוויזיה, וכו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משרדי מועצת יש"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תושבים מפונים בישובים זמני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היכן נמצא המידע בכל מקור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מנועי חיפוש בארכיונים  של עיתונ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חיפוש באינדקס כתבי עת של אוניברסיטת חיפה 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tinyurl.com/php2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חיפוש במנוע חיפוש של האוסף התצלומים הלאומ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גיבוש שאלות לראיונות עם עקורי הישובים על יישוביה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3000240" cy="1620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8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0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2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8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4" dur="5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0" dur="5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#4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 השימוש</a:t>
            </a:r>
            <a:r>
              <a:rPr b="0" lang="he-IL" sz="4400" spc="-1" strike="noStrike">
                <a:solidFill>
                  <a:srgbClr val="f6bf69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במיד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ך אוכל להשתמש בכל מקור בדרך הטובה ביות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זה מידע בכל מקור הוא שימוש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26960" y="3357720"/>
            <a:ext cx="2508480" cy="350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86" dur="1" fill="hold"/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0000"/>
                </a:solidFill>
                <a:latin typeface="Arial"/>
              </a:rPr>
              <a:t>בעיית בניית אתר גוש קטיף</a:t>
            </a: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800"/>
            </a:b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0000"/>
                </a:solidFill>
                <a:latin typeface="Arial"/>
              </a:rPr>
              <a:t>#4</a:t>
            </a:r>
            <a:r>
              <a:rPr b="1" lang="he-IL" sz="4000" spc="-1" strike="noStrike">
                <a:solidFill>
                  <a:srgbClr val="ff0000"/>
                </a:solidFill>
                <a:latin typeface="Arial"/>
              </a:rPr>
              <a:t> השימוש במיד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איך אוכל להשתמש בכל מקור בדרך הטובה ביותר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דפדוף ועלעול בחומר שאיתרת כדי להבינו ולמצוא חומר רלבנטי לנושא ולמטלה. קריאה ועיון בחומר הרלבנט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שכתוב הראיונות בעל פה לדפוס (קובץ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ORD</a:t>
            </a: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איזה מידע בכל מקור הוא שימוש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איסוף המידע מכל מקור, (רשימות, סיכומים, תמונות), מיונו לפי ישוב ותקופ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שימוש בכרטיסי סיכום מידע או בקובץ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ערכת אמינות המידע, דיוקו והיקפ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רישום מקורות המידע ליד כל פיסת מידע על פי נוהל מקובל של ציטוט מקורו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note_card"/>
          <p:cNvPicPr/>
          <p:nvPr/>
        </p:nvPicPr>
        <p:blipFill>
          <a:blip r:embed="rId1"/>
          <a:stretch/>
        </p:blipFill>
        <p:spPr>
          <a:xfrm>
            <a:off x="250920" y="3716280"/>
            <a:ext cx="4321080" cy="2745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bib_card"/>
          <p:cNvPicPr/>
          <p:nvPr/>
        </p:nvPicPr>
        <p:blipFill>
          <a:blip r:embed="rId2"/>
          <a:stretch/>
        </p:blipFill>
        <p:spPr>
          <a:xfrm>
            <a:off x="4572000" y="3716280"/>
            <a:ext cx="4319640" cy="2702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1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10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#5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 מיזוג</a:t>
            </a:r>
            <a:r>
              <a:rPr b="0" lang="he-IL" sz="4400" spc="-1" strike="noStrike">
                <a:solidFill>
                  <a:srgbClr val="f6bf69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(סינתזה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ך אוכל לארגן את המידע מכל המקורות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ך ניתן להציג את המידע בדרך הטובה ביות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332000" y="3176640"/>
            <a:ext cx="2652480" cy="368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92" dur="1" fill="hold"/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בעיית בניית אתר גוש קטיף</a:t>
            </a:r>
            <a:r>
              <a:rPr b="0" lang="he-IL" sz="4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800"/>
            </a:b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0000"/>
                </a:solidFill>
                <a:latin typeface="Arial"/>
              </a:rPr>
              <a:t>#5</a:t>
            </a:r>
            <a:r>
              <a:rPr b="1" lang="he-IL" sz="4000" spc="-1" strike="noStrike">
                <a:solidFill>
                  <a:srgbClr val="ff0000"/>
                </a:solidFill>
                <a:latin typeface="Arial"/>
              </a:rPr>
              <a:t> מיזוג (סינתזה) – מחברים את הכו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3399"/>
                </a:solidFill>
                <a:latin typeface="Arial"/>
              </a:rPr>
              <a:t>איך אוכל לארגן את המידע מכל המקורות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בניית ראשי פרקים של האתר ושיבוץ המידע לפיה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בניית תוכנית של תוכן אתר האינטרנט על גוש קטיף על פי דפי האת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3399"/>
                </a:solidFill>
                <a:latin typeface="Arial"/>
              </a:rPr>
              <a:t>איך ניתן להציג את המידע בדרך הטובה ביות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בניית תבנית האתר באמצעות תוכנה לבניית אתרים כולל דף מבוא, דף קישורים לאתרים נוספים, שילוב תמונות, וכו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בניית הדפים מתוך מקורות המידע שנאספ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הצגת הגרסה הראשונה של האתר על מנת לקבל משוב ולבצע תיקוני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פרסום האת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9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6980040" cy="57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1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8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10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cc9900"/>
                </a:solidFill>
                <a:latin typeface="Arial"/>
              </a:rPr>
              <a:t>ברוכה הבאה לכיתה ט'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עבודה בכית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שיעורי בי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בחנ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כתיבת עבוד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חנ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פתרון תרגיל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כנת טכס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שתתפות בשיעור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MCj02130330000[1]"/>
          <p:cNvPicPr/>
          <p:nvPr/>
        </p:nvPicPr>
        <p:blipFill>
          <a:blip r:embed="rId1"/>
          <a:stretch/>
        </p:blipFill>
        <p:spPr>
          <a:xfrm>
            <a:off x="3564000" y="1773360"/>
            <a:ext cx="1297080" cy="1796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Cj03553230000[1]"/>
          <p:cNvPicPr/>
          <p:nvPr/>
        </p:nvPicPr>
        <p:blipFill>
          <a:blip r:embed="rId2"/>
          <a:stretch/>
        </p:blipFill>
        <p:spPr>
          <a:xfrm>
            <a:off x="250920" y="1916280"/>
            <a:ext cx="1793880" cy="1809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MCj03559450000[1]"/>
          <p:cNvPicPr/>
          <p:nvPr/>
        </p:nvPicPr>
        <p:blipFill>
          <a:blip r:embed="rId3"/>
          <a:stretch/>
        </p:blipFill>
        <p:spPr>
          <a:xfrm>
            <a:off x="395280" y="4149720"/>
            <a:ext cx="1490760" cy="186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MCj03590890000[1]"/>
          <p:cNvPicPr/>
          <p:nvPr/>
        </p:nvPicPr>
        <p:blipFill>
          <a:blip r:embed="rId4"/>
          <a:stretch/>
        </p:blipFill>
        <p:spPr>
          <a:xfrm>
            <a:off x="2987640" y="4149720"/>
            <a:ext cx="1657440" cy="181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#6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 הערכ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האם נפתרה הבעיה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ך אוכל לעשות את זה יותר טוב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 rtl="1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3492360" y="3357720"/>
            <a:ext cx="2252880" cy="3336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94" dur="1" fill="hold"/>
                                  <p:tgtEl>
                                    <p:spTgt spid="1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בעיית בניית אתר גוש קטיף</a:t>
            </a:r>
            <a:br>
              <a:rPr sz="4400"/>
            </a:b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0000"/>
                </a:solidFill>
                <a:latin typeface="Arial"/>
              </a:rPr>
              <a:t>#6</a:t>
            </a:r>
            <a:r>
              <a:rPr b="1" lang="he-IL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e-IL" sz="3400" spc="-1" strike="noStrike">
                <a:solidFill>
                  <a:srgbClr val="ff0000"/>
                </a:solidFill>
                <a:latin typeface="Arial"/>
              </a:rPr>
              <a:t>הערכה – האם יכולתי לעשות יותר טוב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99"/>
                </a:solidFill>
                <a:latin typeface="Arial"/>
              </a:rPr>
              <a:t>האם נפתרה הבעיה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נבנה אתר בעל מידע מקיף ואמין, כתוב בשפה תקנית ברורה ומעניינת, הראוי לייצג את ישובי גוש קטיף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האתר מאורגן, אסטטי, קל להתמצאות וכולל תמונות מעניינות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יש באתר קישורים המעבירים למקורות מידע חשובי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99"/>
                </a:solidFill>
                <a:latin typeface="Arial"/>
              </a:rPr>
              <a:t>איך אוכל לעשות את זה יותר טוב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השתמשתי במקורות מידע מתאימים (בעלי מידע מקיף ואמין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מצאתי את המקורות בצורה יעילה? האם "דילגתי" על מקורות חשובי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סיכמתי את המידע מהמקורות בצורה יעילה וקלה לשימוש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בניתי את ראשי הפרקים בצורה נכונה ושילבתי בהם את המידע מכל המקורות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תכננתי את האתר בצורה יעילה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השתמשתי בכלים טובים לבניית האתר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619280" y="5013360"/>
            <a:ext cx="1546200" cy="170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0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500"/>
                            </p:stCondLst>
                            <p:childTnLst>
                              <p:par>
                                <p:cTn id="15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5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7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3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9" dur="500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5" dur="500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79" dur="1" fill="hold"/>
                                  <p:tgtEl>
                                    <p:spTgt spid="16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מקורו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השישייה הפותחת –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BIG 6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ttp://big6.com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פרויקט קניית נעליים -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פרויקט אתר גוש קטיף – ראובן ורב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אתר "השישייה הפותחת" בנווה חנה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evnet.etzion.k12.il/thebig6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אתרי צרכנים לחיפוש טלפון סלור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rcRect l="6054" t="0" r="0" b="0"/>
          <a:stretch/>
        </p:blipFill>
        <p:spPr>
          <a:xfrm>
            <a:off x="0" y="2924280"/>
            <a:ext cx="5113440" cy="3041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2"/>
          <a:stretch/>
        </p:blipFill>
        <p:spPr>
          <a:xfrm>
            <a:off x="4572000" y="3322800"/>
            <a:ext cx="4572000" cy="2025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395280" y="141300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http://www.kamaze.co.il/HomePage/Cellular.aspx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AutoShape 9">
            <a:hlinkClick r:id="rId3"/>
          </p:cNvPr>
          <p:cNvSpPr/>
          <p:nvPr/>
        </p:nvSpPr>
        <p:spPr>
          <a:xfrm>
            <a:off x="5940360" y="5950080"/>
            <a:ext cx="2376720" cy="574560"/>
          </a:xfrm>
          <a:custGeom>
            <a:avLst/>
            <a:gdLst>
              <a:gd name="textAreaLeft" fmla="*/ 37080 w 2376720"/>
              <a:gd name="textAreaRight" fmla="*/ 2339640 w 23767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89308" h="21600">
                <a:moveTo>
                  <a:pt x="0" y="0"/>
                </a:moveTo>
                <a:lnTo>
                  <a:pt x="89308" y="0"/>
                </a:lnTo>
                <a:lnTo>
                  <a:pt x="89308" y="21600"/>
                </a:lnTo>
                <a:lnTo>
                  <a:pt x="0" y="21600"/>
                </a:lnTo>
                <a:close/>
              </a:path>
              <a:path fill="lightenLess" w="89308" h="21600">
                <a:moveTo>
                  <a:pt x="0" y="0"/>
                </a:moveTo>
                <a:lnTo>
                  <a:pt x="89308" y="0"/>
                </a:lnTo>
                <a:lnTo>
                  <a:pt x="87908" y="1400"/>
                </a:lnTo>
                <a:lnTo>
                  <a:pt x="1400" y="1400"/>
                </a:lnTo>
                <a:close/>
              </a:path>
              <a:path fill="darken" w="89308" h="21600">
                <a:moveTo>
                  <a:pt x="89308" y="0"/>
                </a:moveTo>
                <a:lnTo>
                  <a:pt x="89308" y="21600"/>
                </a:lnTo>
                <a:lnTo>
                  <a:pt x="87908" y="20200"/>
                </a:lnTo>
                <a:lnTo>
                  <a:pt x="87908" y="1400"/>
                </a:lnTo>
                <a:close/>
              </a:path>
              <a:path fill="darkenLess" w="89308" h="21600">
                <a:moveTo>
                  <a:pt x="89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908" y="20200"/>
                </a:lnTo>
                <a:close/>
              </a:path>
              <a:path fill="lighten" w="89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308" h="21600">
                <a:moveTo>
                  <a:pt x="37647" y="3794"/>
                </a:moveTo>
                <a:lnTo>
                  <a:pt x="51660" y="10800"/>
                </a:lnTo>
                <a:lnTo>
                  <a:pt x="37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פרסום בעיתון של טלפונים סלולריי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phonead"/>
          <p:cNvPicPr/>
          <p:nvPr/>
        </p:nvPicPr>
        <p:blipFill>
          <a:blip r:embed="rId1"/>
          <a:stretch/>
        </p:blipFill>
        <p:spPr>
          <a:xfrm>
            <a:off x="4211640" y="1197000"/>
            <a:ext cx="1095480" cy="551664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6">
            <a:hlinkClick r:id="rId2"/>
          </p:cNvPr>
          <p:cNvSpPr/>
          <p:nvPr/>
        </p:nvSpPr>
        <p:spPr>
          <a:xfrm>
            <a:off x="5940360" y="5373720"/>
            <a:ext cx="2376720" cy="574560"/>
          </a:xfrm>
          <a:custGeom>
            <a:avLst/>
            <a:gdLst>
              <a:gd name="textAreaLeft" fmla="*/ 37080 w 2376720"/>
              <a:gd name="textAreaRight" fmla="*/ 2339640 w 23767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89308" h="21600">
                <a:moveTo>
                  <a:pt x="0" y="0"/>
                </a:moveTo>
                <a:lnTo>
                  <a:pt x="89308" y="0"/>
                </a:lnTo>
                <a:lnTo>
                  <a:pt x="89308" y="21600"/>
                </a:lnTo>
                <a:lnTo>
                  <a:pt x="0" y="21600"/>
                </a:lnTo>
                <a:close/>
              </a:path>
              <a:path fill="lightenLess" w="89308" h="21600">
                <a:moveTo>
                  <a:pt x="0" y="0"/>
                </a:moveTo>
                <a:lnTo>
                  <a:pt x="89308" y="0"/>
                </a:lnTo>
                <a:lnTo>
                  <a:pt x="87908" y="1400"/>
                </a:lnTo>
                <a:lnTo>
                  <a:pt x="1400" y="1400"/>
                </a:lnTo>
                <a:close/>
              </a:path>
              <a:path fill="darken" w="89308" h="21600">
                <a:moveTo>
                  <a:pt x="89308" y="0"/>
                </a:moveTo>
                <a:lnTo>
                  <a:pt x="89308" y="21600"/>
                </a:lnTo>
                <a:lnTo>
                  <a:pt x="87908" y="20200"/>
                </a:lnTo>
                <a:lnTo>
                  <a:pt x="87908" y="1400"/>
                </a:lnTo>
                <a:close/>
              </a:path>
              <a:path fill="darkenLess" w="89308" h="21600">
                <a:moveTo>
                  <a:pt x="89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908" y="20200"/>
                </a:lnTo>
                <a:close/>
              </a:path>
              <a:path fill="lighten" w="89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308" h="21600">
                <a:moveTo>
                  <a:pt x="37647" y="3794"/>
                </a:moveTo>
                <a:lnTo>
                  <a:pt x="51660" y="10800"/>
                </a:lnTo>
                <a:lnTo>
                  <a:pt x="37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worm"/>
          <p:cNvPicPr/>
          <p:nvPr/>
        </p:nvPicPr>
        <p:blipFill>
          <a:blip r:embed="rId1"/>
          <a:stretch/>
        </p:blipFill>
        <p:spPr>
          <a:xfrm>
            <a:off x="3203640" y="2781360"/>
            <a:ext cx="2681280" cy="3767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אז מה עושים, היכן מתחילי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השישייה הפותחת – שיטה המסייעת לפתור בעיות בצורה מובנית ומסודרת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worm"/>
          <p:cNvPicPr/>
          <p:nvPr/>
        </p:nvPicPr>
        <p:blipFill>
          <a:blip r:embed="rId1"/>
          <a:stretch/>
        </p:blipFill>
        <p:spPr>
          <a:xfrm>
            <a:off x="468360" y="3500280"/>
            <a:ext cx="2170080" cy="3048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השישייה הפותח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השאלה המרכזית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מהם הצעדים שעלינו לנקוט על מנת להשלים לימוד חקר מתוכנן ומדווח על נושא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ך מתחילים ואיך ממשיכי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ך פותרים בעיות מידע וחק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3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3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500"/>
                            </p:stCondLst>
                            <p:childTnLst>
                              <p:par>
                                <p:cTn id="2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3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9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3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0" descr="worm"/>
          <p:cNvPicPr/>
          <p:nvPr/>
        </p:nvPicPr>
        <p:blipFill>
          <a:blip r:embed="rId1"/>
          <a:stretch/>
        </p:blipFill>
        <p:spPr>
          <a:xfrm>
            <a:off x="5940360" y="2781360"/>
            <a:ext cx="2681280" cy="3767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השישייה הפותחת בחיי יום יו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333399"/>
                </a:solidFill>
                <a:latin typeface="Arial"/>
              </a:rPr>
              <a:t>איך קונים טלפון סלולרי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cellular"/>
          <p:cNvPicPr/>
          <p:nvPr/>
        </p:nvPicPr>
        <p:blipFill>
          <a:blip r:embed="rId2"/>
          <a:stretch/>
        </p:blipFill>
        <p:spPr>
          <a:xfrm>
            <a:off x="395280" y="4581360"/>
            <a:ext cx="2597040" cy="2078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3"/>
          <a:stretch/>
        </p:blipFill>
        <p:spPr>
          <a:xfrm>
            <a:off x="420840" y="1994040"/>
            <a:ext cx="2023920" cy="177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worm"/>
          <p:cNvPicPr/>
          <p:nvPr/>
        </p:nvPicPr>
        <p:blipFill>
          <a:blip r:embed="rId1"/>
          <a:stretch/>
        </p:blipFill>
        <p:spPr>
          <a:xfrm>
            <a:off x="0" y="4005360"/>
            <a:ext cx="1860480" cy="2614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# 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 הגדרת המטל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מהי הבעיה שעלי לפתור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מהו המידע ההכרחי שאני צריכה כדי לפתור אותה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בעיית קנית טלפון סלולרי</a:t>
            </a:r>
            <a:br>
              <a:rPr sz="5400"/>
            </a:b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#1</a:t>
            </a: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 הגדרת המטל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80000" y="1599840"/>
            <a:ext cx="490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99"/>
                </a:solidFill>
                <a:latin typeface="Arial"/>
              </a:rPr>
              <a:t>ההורים הציעו לקנות לי טלפון סלולרי חדש, מחיר השיחות על חשבוני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99"/>
                </a:solidFill>
                <a:latin typeface="Arial"/>
              </a:rPr>
              <a:t>מהי הבעיה שעלי לפתור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200" spc="-1" strike="noStrike">
                <a:solidFill>
                  <a:srgbClr val="333399"/>
                </a:solidFill>
                <a:latin typeface="Arial"/>
              </a:rPr>
              <a:t>לקנות טלפון סלולרי במחיר סביר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99"/>
                </a:solidFill>
                <a:latin typeface="Arial"/>
              </a:rPr>
              <a:t>מהו המידע ההכרחי שאני צריכה כדי לפתור אות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 algn="r" rtl="1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צריך להיות דגם מדלי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 algn="r" rtl="1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צריך להיות קל ונוח לשימו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 algn="r" rtl="1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איכות שמע, צג ברור, טיפול ב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 algn="r" rtl="1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כולל מצלמה ונגן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 algn="r" rtl="1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דמי שימוש זולי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 algn="r" rtl="1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קרינה נמוכ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02_7380_7w_lowres"/>
          <p:cNvPicPr/>
          <p:nvPr/>
        </p:nvPicPr>
        <p:blipFill>
          <a:blip r:embed="rId1"/>
          <a:stretch/>
        </p:blipFill>
        <p:spPr>
          <a:xfrm>
            <a:off x="250920" y="1197000"/>
            <a:ext cx="2098440" cy="160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"/>
          <p:cNvPicPr/>
          <p:nvPr/>
        </p:nvPicPr>
        <p:blipFill>
          <a:blip r:embed="rId2"/>
          <a:stretch/>
        </p:blipFill>
        <p:spPr>
          <a:xfrm>
            <a:off x="0" y="3071880"/>
            <a:ext cx="3314880" cy="1243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"/>
          <p:cNvPicPr/>
          <p:nvPr/>
        </p:nvPicPr>
        <p:blipFill>
          <a:blip r:embed="rId3"/>
          <a:stretch/>
        </p:blipFill>
        <p:spPr>
          <a:xfrm>
            <a:off x="214200" y="5000760"/>
            <a:ext cx="3886200" cy="145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1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1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10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worm"/>
          <p:cNvPicPr/>
          <p:nvPr/>
        </p:nvPicPr>
        <p:blipFill>
          <a:blip r:embed="rId1"/>
          <a:stretch/>
        </p:blipFill>
        <p:spPr>
          <a:xfrm>
            <a:off x="900000" y="2852640"/>
            <a:ext cx="2681280" cy="3767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Copperplate Gothic Bold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Guttman Keren"/>
              </a:rPr>
              <a:t> </a:t>
            </a:r>
            <a:r>
              <a:rPr b="1" lang="he-IL" sz="3600" spc="-1" strike="noStrike">
                <a:solidFill>
                  <a:srgbClr val="333399"/>
                </a:solidFill>
                <a:latin typeface="Arial"/>
              </a:rPr>
              <a:t>#2</a:t>
            </a:r>
            <a:r>
              <a:rPr b="1" lang="he-IL" sz="3600" spc="-1" strike="noStrike">
                <a:solidFill>
                  <a:srgbClr val="333399"/>
                </a:solidFill>
                <a:latin typeface="Arial"/>
                <a:ea typeface="Guttman Keren"/>
              </a:rPr>
              <a:t> </a:t>
            </a:r>
            <a:r>
              <a:rPr b="1" lang="he-IL" sz="3600" spc="-1" strike="noStrike">
                <a:solidFill>
                  <a:srgbClr val="333399"/>
                </a:solidFill>
                <a:latin typeface="Arial"/>
              </a:rPr>
              <a:t>אסטרטגיות חיפוש מיד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מהם מקורות המידע מהם ניתן לקבל תשובות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מהם המקורות הכי טובי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2:21:10Z</dcterms:created>
  <dc:creator>ראובן ורבר</dc:creator>
  <dc:description/>
  <dc:language>en-US</dc:language>
  <cp:lastModifiedBy>נוה חנה</cp:lastModifiedBy>
  <dcterms:modified xsi:type="dcterms:W3CDTF">2009-10-12T08:01:21Z</dcterms:modified>
  <cp:revision>551</cp:revision>
  <dc:subject/>
  <dc:title>השישייה הפותחת</dc:title>
</cp:coreProperties>
</file>